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image5.gif" ContentType="image/gif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notesMasterIdLst>
    <p:notesMasterId r:id="rId25"/>
  </p:notes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  <p:sldId id="287" r:id="rId57"/>
    <p:sldId id="288" r:id="rId58"/>
    <p:sldId id="289" r:id="rId59"/>
    <p:sldId id="29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notesMaster" Target="notesMasters/notesMaster1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slide" Target="slides/slide32.xml"/><Relationship Id="rId58" Type="http://schemas.openxmlformats.org/officeDocument/2006/relationships/slide" Target="slides/slide33.xml"/><Relationship Id="rId59" Type="http://schemas.openxmlformats.org/officeDocument/2006/relationships/slide" Target="slides/slide34.xml"/><Relationship Id="rId60" Type="http://schemas.openxmlformats.org/officeDocument/2006/relationships/slide" Target="slides/slide35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dt" idx="6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 type="ftr" idx="6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 type="sldNum" idx="6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F9B5-5913-4C80-A3CB-11C5C66BB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468C-ED46-425B-A0E9-D3DA85C93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Y 1  COMPLETE SLIDES 1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GNMENT #1 IS ON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D96C-8A00-46AA-BBFA-B5B43A706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2 – COMPLETE SLIDES 9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Y NOTES AND EXAMPLES IN JOUR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R’S CHOICE TEXT PAGE 541  EXERCISE #2  IN JOURNALS—FOLLOW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2AB6-AB9D-48D6-A60E-C034CEA2A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2 – COMPLETE SLIDES 9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Y NOTES AND EXAMPLES IN JOUR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D69D-AD09-4D68-9E45-C20113F34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2 – COMPLETE SLIDES 9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Y NOTES AND EXAMPLES IN JOUR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8833-2658-4397-A34F-870244219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2 – COMPLETE SLIDES 9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Y NOTES AND EXAMPLES IN JOUR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196E-059B-43E1-BD54-ECE85E967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2 – COMPLETE SLIDES 9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Y NOTES AND EXAMPLES IN JOUR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0C20-7634-4020-80C9-100F3438E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2 – COMPLETE SLIDES 9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Y NOTES AND EXAMPLES IN JOUR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B658-782B-4246-8A63-966F479C3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2 Assig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r’s Choice text p. 541 ex. 2 in jour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4A59-8C8D-44E2-80AD-AFA21A0D1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3 Assig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sson 69 worksheet p. 237-2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6183-DDDB-4818-A6B4-E09A26892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  Slides 18-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CA1F-FF43-4AA9-8137-9AFEDDC2A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  Slides 18-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68A2-7FF6-49D9-9E6F-5B55811E2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Y 1  COMPLETE SLIDES 1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GNMENT #1 IS ON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BB08-8C9D-4A97-87C4-F54A035E5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  Slides 18-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F5D8-FB79-4A9E-8188-5B4E2C85C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  Slides 18-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0A1E-C5FC-4E71-A3D5-F1E74DEE9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  Slides 18-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4EFD-93E1-49CE-8A4E-E911111F2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  Slides 18-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91C3-A178-4087-B885-417D5C7B5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  Slides 18-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DFC5-1333-406A-B82E-DF967AACF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  Slides 18-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A133-7B62-473C-9F58-47D4823BC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00"/>
                </a:solidFill>
                <a:latin typeface="Times New Roman"/>
              </a:rPr>
              <a:t>DAY 5 ASSIGNMENT #3 CLASS WORK p. 543 text exercise 4 in jour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2BA9-E937-477F-8D50-F381824DD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6  COMPLETE WORKSHEETS 241-244 IN CLASS  Check and record.  2 points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1E16-6EA2-4FCB-834F-83BF773ED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COMPLETE SLIDES 29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C415-2EE9-4649-BF5B-D7913DC0E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COMPLETE SLIDES 29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8DC6-700A-489D-A4B2-9C1233AAF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Y 1  COMPLETE SLIDES 1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GNMENT #1 IS ON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5058-B45E-4654-9E06-65940CC32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COMPLETE SLIDES 29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12C7-01F8-438F-9BD9-F8322F94B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COMPLETE SLIDES 29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68BA-A9B9-4CF1-AFEC-F29ECC668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COMPLETE SLIDES 29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7FEC-D7B8-4CF5-851F-7435B20C8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COMPLETE SLIDES 29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48E1-6E52-4E33-B8EF-61ABB60A0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4 COMPLETE SLIDES 29-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08CF-F34B-406A-BA86-200158823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6 ASSIGNMENT  SLIDE 36  Follow directions.  Check and record tomorrow.  2 points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51E7-D635-4639-8D06-9A4894AF3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Y 1  COMPLETE SLIDES 1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GNMENT #1 IS ON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015D-9765-417E-8D58-BF45AFD46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Y 1  COMPLETE SLIDES 1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GNMENT #1 IS ON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3A5D-D443-4B1B-A006-6627E14DE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Y 1  COMPLETE SLIDES 1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GNMENT #1 IS ON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9053-0EF0-4246-BBE2-2C19DF2A6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Y 1  COMPLETE SLIDES 1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IGNMENT #1 IS ON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9001-22AA-462F-95E6-8D288E74B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1  ASSIGNMENT #1  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should copy the notes and examples into their journ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SIGNMENT #1 IS ON SLIDE 8  FOLLOW DIRECTIONS CAREFU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9CAE-A492-4A88-850F-5F9CA9376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Y 2 – COMPLETE SLIDES 9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Y NOTES AND EXAMPLES IN JOUR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R’S CHOICE TEXT PAGE 541  EXERCISE #2  IN JOURNALS—FOLLOW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C4E7-9C12-4ADD-B770-60DA5911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A462-CAB7-4DEE-9540-E42DCEF6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DA203-1834-4AE7-9647-C40E107E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8C71E-E678-40A5-BD32-1EF67301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A3713-F7E3-4708-8CAD-B6937474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18670-765E-45F6-A809-E83EAB3E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7E540-42F0-4095-8F91-8EAA24ED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08FC3-F447-4BAC-9CC3-8545C222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57DB5-96B3-4FBA-AFBC-DE7E5EE3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DDE7D-3E09-425B-A413-18E0CF8D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26C77-1D3E-4838-86E8-A8752481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ED946-22CD-4132-A90E-E682A76F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1143-B3F9-4D43-A5E8-E69CA384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8316F-0CF8-4318-A5D1-7B14876E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09E3F-12DF-416F-8169-42A00A07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D7EDE-EF52-4660-837E-947D0BB5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FBEC6-5858-400D-8FEB-71996766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9464F-4364-4568-8DE7-D3C14D0B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0B193-3A41-4967-BA19-CE943211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1EB71-4DC7-476E-8536-79EDF21C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87ADD-F2A6-4575-895D-7D540BE0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D3079-6B0C-458F-9A26-F80F6951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60406-72F5-4AE6-8F32-EDF750B5C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653-F6FB-4643-97E3-F702A605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2422D-B024-4C46-98C6-374C23F3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C8B44-353B-4FE5-9EFC-3BACC0DD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DFF75-CDB7-4576-8079-607CF705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D102E-A060-4E17-BB91-1D04CC88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F16EA-F5E7-4841-92F6-15184B86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2904E-E19D-4B50-950A-43D696E6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08FF9-84D6-4CD6-9631-C12C1514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6A82E-518E-44DD-8B7D-BC29E94A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10642-7F32-4E11-BC50-E868BE77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AC5F5-9AB1-48C4-99B4-FCA68717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36D9F-35F4-4CE6-8E9E-EED1C753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988C5-0DDE-4B5B-9442-B896AFC7B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38D0C-146E-4FAF-AC80-8A9EBE68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2E9F8-D78D-452F-8156-93A44160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ADF95-50B0-48A2-A0AE-C81354E4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8A2C2D-2B01-40CF-A79B-AE95C320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ABFCC-9883-4BCC-99ED-4384609C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B6A37-6D56-4D1F-A133-5B2AAD01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3404E-15E3-44EA-A223-BE98C920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F86AC-49BE-4607-A0EF-EEBE4B4A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C31B1-D423-4ADE-BA9C-0C17A91E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CCF38-FBD4-45A1-A5C6-9A228435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A8DFD-284E-4BDD-A61C-76D5C3CD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777DF-5D40-45BC-9854-6566DF9B4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26EDB-89B9-4405-970D-4AEEE5D0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16279-B71E-47AB-80F9-163BE799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0ACB5-73E3-41BD-95D4-BF35A368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08829-E795-4D37-A6DC-1D9619F1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291F1-6E8D-4458-A34C-664C8CEE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07F80-3BA0-4362-A196-508DD3BA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95FEA-3827-49F7-9092-4B90C346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3220E-16AA-4DA0-B2D5-87A43E05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EA595-C760-4720-85F9-C438737C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5582B-0EDE-4CAE-B83B-831567BA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57653-CA88-4216-9A50-57620E7D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60908-5F10-443D-B0F4-E9B5A896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F611F-21C5-4B71-9550-00E0BCEFE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84B18-EFE2-40F3-A6C1-BAAC37F3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B3D26-D91A-4247-8DEF-45A738A6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D7A08-1C04-4A2F-8750-3A5CA05A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B0AA5-6385-4E09-B7CD-D18113DB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411E2-4F39-4976-B10E-FCAEFD16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54563-6438-4D3A-BBC9-BDFF8179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5E8FF-22CC-461E-8BF0-F9E83905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777A1-AEA2-4205-9F58-26C0C53B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14AEA-DF72-44CA-A3B1-C417797A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5E2DC-22CA-48AE-A719-E66DD213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0EB8F-A6EE-4FED-8C51-1653024EB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3EF0B-856E-4F99-80FE-6BB92837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DE7DA0-5338-4D1F-9959-56647934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BAEE36-1770-4C11-9571-643B73E5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D5E461-2746-420A-84B8-220329A5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39021F-6DC3-4AC3-910C-1AB2D560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EC5A41-8730-4E0C-ABE3-10B85F46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1B3D6C-85A7-40FD-AB67-43F8C91D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A4BC23-3126-4A63-B17D-BAD8EB34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D1E20-0A45-4977-BB8C-9B92DA07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9FFF7F-FA19-4DF0-9489-AD67926F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9937C-B2C8-40E7-BBF9-EAF9DCE2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8D9FC-03AE-457A-B022-71DEB2C6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B691B0-C244-4DE6-A464-2B60A334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57DF73-43DF-4DA0-9BB6-16DD3F35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51B7C5-B711-449E-AC44-2BD70D6C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6CE76-727D-4B2C-974A-29510BEB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1B2B35-2BCC-47D6-8CF3-83DA6FDF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0F49A5-C03F-4ECC-A88D-DB270E8B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C20CCE-4CA9-462B-BAB0-ACE97422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5D3D78-2051-4BE4-AEC1-1C2ED101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99C314-5948-44CE-A8A0-3E6C866A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8711CF-D6BA-43DB-B5DD-7473BC89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AE5154-1F3F-4FC1-843E-12EF36C2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AB1AC8-599F-4992-AA45-D924F244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7E0CFC-111C-4894-93E9-77A1B4D78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B6CF74-2B90-4B20-864D-CB389DBC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BCA08B-29A0-430C-A723-4A18DEA2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0841D8-0E2A-4782-AAA7-55659554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C3340C-0881-423A-97C9-A22EA7E2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05FD9A-7892-496F-929C-750359F8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DBE23F-2FF3-49BA-9805-C12EEC8E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EED365-1099-4B29-A8BF-B05CB1BC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7723-CD55-43A2-B392-0E8C65DF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431507-41D6-488A-8D3D-B8121D46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1C8FA3-0B49-4DDA-BFC0-741CC82D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CB2EDC-3E09-49B2-86AA-CCD079EF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C1CDFA-8B52-4E37-8B8C-14C15D76F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091C73-CB78-4055-8675-E67A5D36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368A8B-5EDE-4342-B318-30DCF703A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B766C2-95DB-431E-83CC-52D999C0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803ED3-3FBD-41D9-9813-B65E94BF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9A6F31-D4F9-4602-BC7B-F99EB21B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B08573-8EC9-42CE-AE82-BAB14B68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2E3AD2-578B-4518-95E4-F87A793B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F3B112-1ABB-4A70-A99F-807612F2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BF0FD5-EFB7-45BB-A414-C16B64D3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1B3BD2-1F40-4749-8BD3-70188A65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F1DD79-68BE-4AEE-958A-64139069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785182-38F6-4D37-913C-55C8A2CD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75450D-CB49-493B-BE18-61B7E92A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5B389B-3BC7-4EF4-A261-29080D90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0F3EA8-2855-461C-B481-6E294130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ADCE5E-3F68-4367-BC21-32B9084C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21725C-EA7A-4652-9AA2-7CF4D863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582515-23C3-43B5-B572-E6D4DE00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2C5A6F-9421-46A2-BC85-A561AF73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6B5F60-A75B-481E-B111-AE4FEE7B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F2CCA5-BD14-49DB-90E9-B7393F9A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EA65D5-F44D-4443-9A00-32473EE3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EFC860-1024-4A30-B939-8FE91F88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E8E2A9-7BF8-4583-9F00-D613A161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FE9B0D-9282-423B-8D59-06E92C8B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8A022C-12DC-4CC1-8A35-D4FDE16D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DA64A7-10F3-48D6-8E3B-527A15F8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38453B-302A-4CBF-A56F-970B56EC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EB4E64-EC61-45B7-B836-E130E8B5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4D7589-A0E3-4F05-84C6-B8C3FB4A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6D1665-5396-4F32-AC35-03263E7A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8B8686-EEC0-411A-A27B-ABE5BA5D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E16ACE-06A5-42AF-9DBC-AE6DBC9A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7BBB68-C443-4463-9B5F-332A4D72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384856-E5BE-40BF-A46B-36C6DD2C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A45B74-B77A-4FD5-9452-6C2DFC98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B82498-1996-4B7B-A34A-6D041A71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0B045A-85A5-4874-B3DF-877A6ABED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A5ED6E-EC60-436B-8F7E-0E31DD70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7C6382-ED86-41E0-A62C-C0150F2F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7A990F-F71C-4D3E-872D-6CFE27FE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1F5C59-2F57-4A77-BD29-875F0768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69F5F7-47B9-4B66-9027-C9DBA91A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CD2160-B9C4-4298-A99F-4C6AE988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837E12-6C96-4DD5-9F21-AC1C4A8D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069A25-B277-414E-95CE-8D201DF2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838845-014E-41AD-97D7-E989E7CC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9DC707-7BAF-4DBD-BEB8-E9953CF0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3D166A-12B0-4096-889B-B53B18093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6CE628-FFDE-4A76-B7DC-42C0DB12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53E5DE-2C0A-4CB0-9FA9-F9EBD711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ED35F3-5A2E-4A45-9CF6-0FB71B17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5F2CE9-AC79-41A5-A5EE-E71A7B43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BC8906-6626-4D1F-9EC3-69A22C9D9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2B0442-4C8A-41F6-9099-A20C8FEB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4423FC-0E0A-4904-A65F-57B2B8A0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2EA431-00C2-40E8-AA1B-3C66D1F4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BE8FD1-BFD9-4D0A-A720-F76F71D1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337512-AE53-451A-AAB9-EEF9C60A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1332F7-173D-4494-82FD-6957C3102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5A8209-044E-4670-9E20-021CA6B6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D0FC9B-5C65-4CF4-9FB1-5A767855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63CDF7-6356-45FE-AD8E-C0B62CAB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B2DB3A-9B91-40E6-BDBB-1E5828CC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9AFBD2-C221-4F6C-963C-24B44025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22458D-0791-4BCD-A77A-CF11E237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E6527F-1EF6-4FAD-BD75-1205FBDF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061757-7F8E-4053-8D7C-6169B125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23056B-B546-46B6-9175-1825B30E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167DF4-A0CF-4E2B-9CA6-DEE1C908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E47618-8278-4940-A4D2-834C8F8E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54236F-6245-47CC-8BFE-E10EFA2A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468060-E2E3-4CD9-8F6E-4FFB66C8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2599-BD6D-45CD-94CE-D741F9CC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FE82-EB9C-4BE9-AD06-67E71FFB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887A-7D3F-4113-8AB0-7C0F72E4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3F85-6808-40BA-9E26-A0117AF0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1C99-BE94-49E4-89CF-D4B2A557C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00A3-AD05-4EE3-8C49-EDE42C1E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5D13-C1E6-46D9-AB03-D0A19D67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0061-2B26-4405-8E41-5510B1B1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598E-6518-43EF-B8E7-3A569E5E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0DB9-EE67-4310-81BD-6C7E3F64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8DCD-D8B6-4D09-8931-EF78BF4A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977E-E6B4-4046-887F-1322C1D5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8133-5125-4548-8EE3-898939E5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D52B-5EE6-42F4-AA17-C8A61864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4D9BD-1046-45B9-A0DE-95B72EE2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FA1C-8BE8-43C6-AC45-D1AEE35B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83520-B567-495F-BEF1-F5B1B5B1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0D339-BAC5-4904-B045-69E7408A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83A17-4153-4AA3-8F5A-9E5C22F8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DD901-51DE-4178-AB83-B8208BB5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61CD4-51C6-49A7-BE16-5145917E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5C131-8A7C-4D09-8E20-B65AD9E2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51ADE-756E-4FCE-B785-36483FAA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B1F13-463B-4E79-BB19-3338BCA9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4C0C6-8123-4CCF-945D-C63ADD65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D8DF7-66CE-4439-9E99-5052A0ED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5C44-1A8D-4C4B-BC32-CA859D42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F5C16-5BD2-47FF-B9B3-DBC2B73D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94472-F4C1-4228-9D26-56EB2351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D747D-4849-4EC6-A790-74690565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49E4B-D017-45D1-A391-2BD5C8A7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6AB21-FFDF-457F-97E6-F3A7DDE4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B5D52-DD9F-4679-87D0-CE635A56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8E813-2B7A-4A4D-A172-69BEFA93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01921-6035-4399-A39E-93D6A9D0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14A60-0781-4718-9A06-69A96E26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F3E6A-B21F-4C2D-A09C-B1AA4891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2A9-AEB8-4775-8E6C-C4D7343F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E0E65-25AA-40B1-BB53-AD31A700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6963F-235B-4C9D-8DA2-8EB99751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51C41-D8B7-4624-821D-E415C80A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A8177-C3D9-4EF3-9145-6AE62D990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820D8-EDF9-412B-9977-6D07EA06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B822B-5669-435D-9090-56CEF244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FF9E3-8187-45EF-A721-74B2E32D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485A2-0372-4C52-8EEE-856BBA83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FA35C-9DC9-472A-BF95-AE98FFEF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7DD3F-98AF-48D0-9D52-CA589D03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D66F-F4A0-473E-BA5A-9356AB18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26086-0E0B-4D9C-B172-870FDDE2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4824F-45B2-43A2-8A4D-B7C8568B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C0EC9-FA03-4F90-9554-82D59B4A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25CE0-B868-49E5-BA7F-F9EB9EB5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A6CA0-6512-4522-A1D3-72B15217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C823C-A216-4C8C-89F5-829E4809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343FC-A6F1-416B-ADF6-97AD777D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75E65-C1F1-44C2-A14F-D2216925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0A4EF-3D14-41BA-94A5-A25365F1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187164-826A-481B-8314-8C338251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7596-3F4E-4E79-ABF3-AA55144B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3125A-CFDE-4CB3-8FBD-68AB2AF8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F4759-24A6-4C61-9BF1-7B764296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BEC8E-0F62-416B-B34E-8641C8CC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B3835-C201-482A-973B-908C203E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A4724-7AD7-48A8-B3B8-67D7BB23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E91AE-581B-40A7-8FDD-6D949FA3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786A8-2462-42EF-97DA-3D67051F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9DA8D-390C-41B7-ACF9-E7A699F0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184B7-B93A-45A1-90F3-88E94F57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44318-DDEF-4C70-9620-034D44C6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A300-C8C9-468D-95D6-CBB7C29E2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BF15-249F-4CAD-A09F-8AB92C7D87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28AC-EC6A-42EA-82EF-CE8043FADE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DA9D-F7D6-4BF1-AE28-9D3BF98B81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979E-92BD-40D4-9A55-AEB65F249E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62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62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63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63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64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65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FE50-D131-49BE-A082-1F8664F4A4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69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69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0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0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1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2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PlaceHolder 1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4DD5-D50F-485C-B55E-CDE6CB6A40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76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77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7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8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8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9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PlaceHolder 1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7E76-75F6-41C8-80E7-A02DEE4CE6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3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4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4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5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5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6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PlaceHolder 1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0B10-534F-4D64-8F56-94A323882F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0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1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1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2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2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3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PlaceHolder 1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710A-03A4-46EF-A44B-09AEDD91BE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8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8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8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9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9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0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" name="PlaceHolder 1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703D-F7A6-42EA-8FB1-CAB8302544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5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5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6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6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7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7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PlaceHolder 1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041F-C93E-4B61-A407-65946E58BC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2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2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3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3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4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4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PlaceHolder 1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EA6E-183F-45DE-A62B-92810DC048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9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9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0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0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1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1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3" name="PlaceHolder 1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9E1C-73DE-4086-8404-22898F01AC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6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6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7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7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8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9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PlaceHolder 1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2739-9A31-443A-8D45-33FC0C7AA3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4971-1A03-4CA5-B599-A0BF6040C1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3231-0EC2-444B-A10D-FAC6CE5CA9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6D57-35A1-4918-8767-0E1658D257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4EF9-3754-48C0-A902-142D1AC927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3E6B-6D46-47BC-A632-83DB84CE2C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89BF-C6F7-422A-A4B3-51E7A14ABD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F7B3-B3F1-4EE2-B144-3BC1C8133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WordArt 3"/>
          <p:cNvSpPr txBox="1"/>
          <p:nvPr/>
        </p:nvSpPr>
        <p:spPr>
          <a:xfrm>
            <a:off x="914400" y="762120"/>
            <a:ext cx="7010280" cy="20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cccc"/>
                  </a:solidFill>
                  <a:miter/>
                </a:ln>
                <a:solidFill>
                  <a:srgbClr val="00008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apitalization</a:t>
            </a:r>
            <a:endParaRPr b="0" lang="en-US" sz="2400" spc="1" strike="noStrike">
              <a:ln w="12600">
                <a:solidFill>
                  <a:srgbClr val="33cccc"/>
                </a:solidFill>
                <a:miter/>
              </a:ln>
              <a:solidFill>
                <a:srgbClr val="00008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2" name="Picture 4" descr=""/>
          <p:cNvPicPr/>
          <p:nvPr/>
        </p:nvPicPr>
        <p:blipFill>
          <a:blip r:embed="rId1"/>
          <a:stretch/>
        </p:blipFill>
        <p:spPr>
          <a:xfrm>
            <a:off x="3048120" y="2666880"/>
            <a:ext cx="2500200" cy="2743200"/>
          </a:xfrm>
          <a:prstGeom prst="rect">
            <a:avLst/>
          </a:prstGeom>
          <a:ln w="0">
            <a:noFill/>
          </a:ln>
        </p:spPr>
      </p:pic>
      <p:sp>
        <p:nvSpPr>
          <p:cNvPr id="1343" name="Text Box 5"/>
          <p:cNvSpPr/>
          <p:nvPr/>
        </p:nvSpPr>
        <p:spPr>
          <a:xfrm>
            <a:off x="0" y="5562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py all notes in journals and complete assign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6FBB-5147-4A51-BF95-36175CE37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 type="subTitle"/>
          </p:nvPr>
        </p:nvSpPr>
        <p:spPr>
          <a:xfrm>
            <a:off x="-360" y="1066320"/>
            <a:ext cx="8839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Comic Sans MS"/>
              </a:rPr>
              <a:t>Capitalize a title or an abbreviation of a title when it comes before a person’s name or when it is used instead of a na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4"/>
          <p:cNvSpPr/>
          <p:nvPr/>
        </p:nvSpPr>
        <p:spPr>
          <a:xfrm>
            <a:off x="533520" y="3718080"/>
            <a:ext cx="86104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eral Lee           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. John Glen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                  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s. Adam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d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eutenant Clark say, “Yes,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tain, I’ll go with you’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0DD2-155D-4305-B334-E5FA935D2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2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subTitle"/>
          </p:nvPr>
        </p:nvSpPr>
        <p:spPr>
          <a:xfrm>
            <a:off x="-360" y="1066320"/>
            <a:ext cx="8839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Comic Sans MS"/>
              </a:rPr>
              <a:t>Do not capitalize a title that follows a person’s name or is used as a common nou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4"/>
          <p:cNvSpPr/>
          <p:nvPr/>
        </p:nvSpPr>
        <p:spPr>
          <a:xfrm>
            <a:off x="228600" y="2971800"/>
            <a:ext cx="86104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ark himself was later promoted to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 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ta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omas Jefferson, then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ident, planned the expedi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C605-56DC-40E4-A21A-8105B5806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-360" y="1066320"/>
            <a:ext cx="8839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Comic Sans MS"/>
              </a:rPr>
              <a:t>Capitalize the names and abbreviations of academic degrees that follow a person’s name.  Capitalize </a:t>
            </a:r>
            <a:r>
              <a:rPr b="0" i="1" lang="en-US" sz="4000" spc="-1" strike="noStrike">
                <a:solidFill>
                  <a:srgbClr val="990000"/>
                </a:solidFill>
                <a:latin typeface="Comic Sans MS"/>
              </a:rPr>
              <a:t>Jr.</a:t>
            </a:r>
            <a:r>
              <a:rPr b="0" lang="en-US" sz="4000" spc="-1" strike="noStrike">
                <a:solidFill>
                  <a:srgbClr val="990000"/>
                </a:solidFill>
                <a:latin typeface="Comic Sans MS"/>
              </a:rPr>
              <a:t> and </a:t>
            </a:r>
            <a:r>
              <a:rPr b="0" i="1" lang="en-US" sz="4000" spc="-1" strike="noStrike">
                <a:solidFill>
                  <a:srgbClr val="990000"/>
                </a:solidFill>
                <a:latin typeface="Comic Sans MS"/>
              </a:rPr>
              <a:t>Sr.</a:t>
            </a:r>
            <a:r>
              <a:rPr b="0" lang="en-US" sz="40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4"/>
          <p:cNvSpPr/>
          <p:nvPr/>
        </p:nvSpPr>
        <p:spPr>
          <a:xfrm>
            <a:off x="228600" y="3733920"/>
            <a:ext cx="86104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. Katayama,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an Rangel,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P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bert Ayers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0C1A-454E-4FE4-B4D9-BA94C9003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subTitle"/>
          </p:nvPr>
        </p:nvSpPr>
        <p:spPr>
          <a:xfrm>
            <a:off x="-360" y="1066320"/>
            <a:ext cx="8839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Comic Sans MS"/>
              </a:rPr>
              <a:t>Capitalize words that show family relationships when used as titles or as substitutes for a person’s na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4"/>
          <p:cNvSpPr/>
          <p:nvPr/>
        </p:nvSpPr>
        <p:spPr>
          <a:xfrm>
            <a:off x="228600" y="3276720"/>
            <a:ext cx="86104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1960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her retraced the steps of Lewis and Clar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 was accompanied by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U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cle Bi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0510-D4BE-439F-9365-173DC08C4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4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subTitle"/>
          </p:nvPr>
        </p:nvSpPr>
        <p:spPr>
          <a:xfrm>
            <a:off x="-360" y="1905120"/>
            <a:ext cx="88390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Comic Sans MS"/>
              </a:rPr>
              <a:t>Do not capitalize words that show family relationships when they follow a possessive noun or pronou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4"/>
          <p:cNvSpPr/>
          <p:nvPr/>
        </p:nvSpPr>
        <p:spPr>
          <a:xfrm>
            <a:off x="228600" y="4632480"/>
            <a:ext cx="8610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Sharon’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t Janet wrote an article about the 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5"/>
          <p:cNvSpPr/>
          <p:nvPr/>
        </p:nvSpPr>
        <p:spPr>
          <a:xfrm>
            <a:off x="228600" y="6019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Possessive 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Line 7"/>
          <p:cNvSpPr/>
          <p:nvPr/>
        </p:nvSpPr>
        <p:spPr>
          <a:xfrm flipV="1">
            <a:off x="1295280" y="541008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0" name="Picture 8" descr="C:\WINDOWS\Application Data\Microsoft\Media Catalog\Downloaded Clips\cl0\AG00218_.gif"/>
          <p:cNvPicPr/>
          <p:nvPr/>
        </p:nvPicPr>
        <p:blipFill>
          <a:blip r:embed="rId1"/>
          <a:stretch/>
        </p:blipFill>
        <p:spPr>
          <a:xfrm>
            <a:off x="6172200" y="5486400"/>
            <a:ext cx="141768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6337-648B-4898-A810-C76E22466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-360" y="1905120"/>
            <a:ext cx="88390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Comic Sans MS"/>
              </a:rPr>
              <a:t>Always capitalize the pronoun </a:t>
            </a:r>
            <a:r>
              <a:rPr b="0" i="1" lang="en-US" sz="4000" spc="-1" strike="noStrike">
                <a:solidFill>
                  <a:srgbClr val="990000"/>
                </a:solidFill>
                <a:latin typeface="Comic Sans MS"/>
              </a:rPr>
              <a:t>I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4"/>
          <p:cNvSpPr/>
          <p:nvPr/>
        </p:nvSpPr>
        <p:spPr>
          <a:xfrm>
            <a:off x="228600" y="37339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cial studies is the subject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I</a:t>
            </a:r>
            <a:r>
              <a:rPr b="1" lang="en-US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5" name="Picture 8" descr="C:\WINDOWS\Application Data\Microsoft\Media Catalog\Downloaded Clips\cl41\j0162964.gif"/>
          <p:cNvPicPr/>
          <p:nvPr/>
        </p:nvPicPr>
        <p:blipFill>
          <a:blip r:embed="rId1"/>
          <a:stretch/>
        </p:blipFill>
        <p:spPr>
          <a:xfrm>
            <a:off x="2971800" y="4270320"/>
            <a:ext cx="30481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E173-3E69-4E23-B8C5-56FFFCF2E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"/>
          <p:cNvSpPr/>
          <p:nvPr/>
        </p:nvSpPr>
        <p:spPr>
          <a:xfrm>
            <a:off x="533520" y="2133720"/>
            <a:ext cx="81532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mic Sans MS"/>
              </a:rPr>
              <a:t>Writer’s Choice text p. 541—exercise 2 in journals.  Check and record tomorr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8" name="Picture 4" descr="C:\WINDOWS\Application Data\Microsoft\Media Catalog\Downloaded Clips\cl0\AG00218_.gif"/>
          <p:cNvPicPr/>
          <p:nvPr/>
        </p:nvPicPr>
        <p:blipFill>
          <a:blip r:embed="rId1"/>
          <a:stretch/>
        </p:blipFill>
        <p:spPr>
          <a:xfrm>
            <a:off x="6583320" y="4896000"/>
            <a:ext cx="2560680" cy="1962000"/>
          </a:xfrm>
          <a:prstGeom prst="rect">
            <a:avLst/>
          </a:prstGeom>
          <a:ln w="0">
            <a:noFill/>
          </a:ln>
        </p:spPr>
      </p:pic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Assignment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CBFA-D56D-4FB6-9E33-E003CEA7D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2"/>
          <p:cNvSpPr/>
          <p:nvPr/>
        </p:nvSpPr>
        <p:spPr>
          <a:xfrm>
            <a:off x="609480" y="1676520"/>
            <a:ext cx="81536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Comic Sans MS"/>
              </a:rPr>
              <a:t>Class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mic Sans MS"/>
              </a:rPr>
              <a:t>Worksheet Lesson 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mic Sans MS"/>
              </a:rPr>
              <a:t>TLW use rules of capitalization for names and tit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2" name="Picture 3" descr="C:\WINDOWS\Application Data\Microsoft\Media Catalog\Downloaded Clips\cl0\AG00218_.gif"/>
          <p:cNvPicPr/>
          <p:nvPr/>
        </p:nvPicPr>
        <p:blipFill>
          <a:blip r:embed="rId1"/>
          <a:stretch/>
        </p:blipFill>
        <p:spPr>
          <a:xfrm>
            <a:off x="6583320" y="609480"/>
            <a:ext cx="2560680" cy="1962360"/>
          </a:xfrm>
          <a:prstGeom prst="rect">
            <a:avLst/>
          </a:prstGeom>
          <a:ln w="0">
            <a:noFill/>
          </a:ln>
        </p:spPr>
      </p:pic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Assignment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963A-36CA-4EB0-89DA-A72A074CF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2"/>
          <p:cNvSpPr/>
          <p:nvPr/>
        </p:nvSpPr>
        <p:spPr>
          <a:xfrm>
            <a:off x="533520" y="1905120"/>
            <a:ext cx="81532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mic Sans MS"/>
              </a:rPr>
              <a:t>Capitalize the names of cities, counties, states countries, and continent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Capitalizing place names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Text Box 6"/>
          <p:cNvSpPr/>
          <p:nvPr/>
        </p:nvSpPr>
        <p:spPr>
          <a:xfrm>
            <a:off x="609480" y="4419720"/>
            <a:ext cx="8534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usto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nge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unt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w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6EC7-7E0E-425C-8E01-3786C88E4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2"/>
          <p:cNvSpPr/>
          <p:nvPr/>
        </p:nvSpPr>
        <p:spPr>
          <a:xfrm>
            <a:off x="533520" y="1523880"/>
            <a:ext cx="81532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mic Sans MS"/>
              </a:rPr>
              <a:t>Capitalize the names of bodies of water and geographical featur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Capitalizing place names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Text Box 4"/>
          <p:cNvSpPr/>
          <p:nvPr/>
        </p:nvSpPr>
        <p:spPr>
          <a:xfrm>
            <a:off x="304920" y="3809880"/>
            <a:ext cx="8534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diterranean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lf of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agara Fall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lantic Oce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0C5D-2C2A-4B32-8AB6-403C386A8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Showcard Gothic"/>
              </a:rPr>
              <a:t>RULE #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 type="subTitle"/>
          </p:nvPr>
        </p:nvSpPr>
        <p:spPr>
          <a:xfrm>
            <a:off x="1066320" y="2819520"/>
            <a:ext cx="7086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Comic Sans MS"/>
              </a:rPr>
              <a:t>Capitalize the first word of a sente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 Box 4"/>
          <p:cNvSpPr/>
          <p:nvPr/>
        </p:nvSpPr>
        <p:spPr>
          <a:xfrm>
            <a:off x="0" y="4876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P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oneers pushed the American frontier westwar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5"/>
          <p:cNvSpPr/>
          <p:nvPr/>
        </p:nvSpPr>
        <p:spPr>
          <a:xfrm>
            <a:off x="8380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Showcard Gothic"/>
              </a:rPr>
              <a:t>Capitalizing sentences, quotations, and letter p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A88D-48BE-45D2-ADAE-CEEADC90B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2"/>
          <p:cNvSpPr/>
          <p:nvPr/>
        </p:nvSpPr>
        <p:spPr>
          <a:xfrm>
            <a:off x="533520" y="1523880"/>
            <a:ext cx="81532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mic Sans MS"/>
              </a:rPr>
              <a:t>Capitalize the names of sections of the coun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Capitalizing place names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4"/>
          <p:cNvSpPr/>
          <p:nvPr/>
        </p:nvSpPr>
        <p:spPr>
          <a:xfrm>
            <a:off x="304920" y="3809880"/>
            <a:ext cx="8534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dwes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w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W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F563-811C-4CF1-AA9C-3AA3691D8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2"/>
          <p:cNvSpPr/>
          <p:nvPr/>
        </p:nvSpPr>
        <p:spPr>
          <a:xfrm>
            <a:off x="533520" y="1523880"/>
            <a:ext cx="81532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mic Sans MS"/>
              </a:rPr>
              <a:t>Capitalize compass points when they refer to a specific section of the coun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Capitalizing place names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 #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4"/>
          <p:cNvSpPr/>
          <p:nvPr/>
        </p:nvSpPr>
        <p:spPr>
          <a:xfrm>
            <a:off x="304920" y="4572000"/>
            <a:ext cx="8534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W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t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as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uthe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631B-C113-4C72-AD7A-35B3244AF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2"/>
          <p:cNvSpPr/>
          <p:nvPr/>
        </p:nvSpPr>
        <p:spPr>
          <a:xfrm>
            <a:off x="533520" y="1828800"/>
            <a:ext cx="8610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Do not capitalize compass points when they indicate directi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s Angeles is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uth of San Francis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Do not capitalize adjectives derived from words indicating dire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sterly win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w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stern Texas</a:t>
            </a: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95480" indent="-195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Capitalizing place names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 #4 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6A45-64A7-4316-B2C1-66284DE1B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2"/>
          <p:cNvSpPr/>
          <p:nvPr/>
        </p:nvSpPr>
        <p:spPr>
          <a:xfrm>
            <a:off x="533520" y="1828800"/>
            <a:ext cx="8610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Capitalize the names of streets and highwa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ro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ee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ute 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rcury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ulev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dy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Capitalizing place names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 #5 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9E95-71DE-4993-86EA-F8C93B5FD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2"/>
          <p:cNvSpPr/>
          <p:nvPr/>
        </p:nvSpPr>
        <p:spPr>
          <a:xfrm>
            <a:off x="533520" y="1828800"/>
            <a:ext cx="8610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Capitalize the names of buildings, bridges, and monum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rysler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ilding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ooklyn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shington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Capitalizing place names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 #6 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04A9-4AE1-4F65-8D9B-8F8E15CC7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2"/>
          <p:cNvSpPr/>
          <p:nvPr/>
        </p:nvSpPr>
        <p:spPr>
          <a:xfrm>
            <a:off x="533520" y="1828800"/>
            <a:ext cx="8610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Capitalize the names of celestial bod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     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ut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th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lky </a:t>
            </a: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Capitalizing place names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 #7 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2" name="Picture 4" descr="C:\WINDOWS\Application Data\Microsoft\Media Catalog\Downloaded Clips\cl57\j0219085.gif"/>
          <p:cNvPicPr/>
          <p:nvPr/>
        </p:nvPicPr>
        <p:blipFill>
          <a:blip r:embed="rId1"/>
          <a:stretch/>
        </p:blipFill>
        <p:spPr>
          <a:xfrm>
            <a:off x="304920" y="4587840"/>
            <a:ext cx="223992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0D01-C9EC-4CFD-9F0F-1BF6DDD63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2"/>
          <p:cNvSpPr/>
          <p:nvPr/>
        </p:nvSpPr>
        <p:spPr>
          <a:xfrm>
            <a:off x="1143000" y="1752480"/>
            <a:ext cx="7086600" cy="46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00"/>
                </a:solidFill>
                <a:latin typeface="Times New Roman"/>
              </a:rPr>
              <a:t>Classwork:</a:t>
            </a: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  TLW identify and use the rules to capitalization for place n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xtbook p. 543  exercise 4 in journal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Showcard Gothic"/>
              </a:rPr>
              <a:t>ASSIGNMENT #4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A4EE-9407-46CD-AE50-C49A4F33A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2"/>
          <p:cNvSpPr/>
          <p:nvPr/>
        </p:nvSpPr>
        <p:spPr>
          <a:xfrm>
            <a:off x="533520" y="1295280"/>
            <a:ext cx="80769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Comic Sans MS"/>
              </a:rPr>
              <a:t>TLW FOLLOW THE RULES OF CAPITALIZATION FOR NAMES OF PLA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Comic Sans MS"/>
              </a:rPr>
              <a:t>CLASSWORK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Comic Sans MS"/>
              </a:rPr>
              <a:t>Lesson 70 p. 241-24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Showcard Gothic"/>
              </a:rPr>
              <a:t>Day 5 assig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97E3-6238-4BCE-8FEE-615F9AE2A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2"/>
          <p:cNvSpPr/>
          <p:nvPr/>
        </p:nvSpPr>
        <p:spPr>
          <a:xfrm>
            <a:off x="609480" y="1676520"/>
            <a:ext cx="8077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Capitalizing other proper nouns and adjectives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6"/>
          <p:cNvSpPr/>
          <p:nvPr/>
        </p:nvSpPr>
        <p:spPr>
          <a:xfrm>
            <a:off x="685800" y="20574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Capitalize the names of clubs, organizations, businesses, institutions, and political par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7"/>
          <p:cNvSpPr/>
          <p:nvPr/>
        </p:nvSpPr>
        <p:spPr>
          <a:xfrm>
            <a:off x="838080" y="4038480"/>
            <a:ext cx="7543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a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 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poratio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y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publican par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4" name="Picture 8" descr="D:\msworks\PFiles\MSWorks\Clipart\Standard\stddir1\AN04302_.WMF"/>
          <p:cNvPicPr/>
          <p:nvPr/>
        </p:nvPicPr>
        <p:blipFill>
          <a:blip r:embed="rId1"/>
          <a:stretch/>
        </p:blipFill>
        <p:spPr>
          <a:xfrm>
            <a:off x="6858000" y="5791320"/>
            <a:ext cx="914400" cy="814320"/>
          </a:xfrm>
          <a:prstGeom prst="rect">
            <a:avLst/>
          </a:prstGeom>
          <a:ln w="0">
            <a:noFill/>
          </a:ln>
        </p:spPr>
      </p:pic>
      <p:pic>
        <p:nvPicPr>
          <p:cNvPr id="1455" name="Picture 9" descr="D:\msworks\PFiles\MSWorks\Clipart\Standard\stddir1\BD06275_.WMF"/>
          <p:cNvPicPr/>
          <p:nvPr/>
        </p:nvPicPr>
        <p:blipFill>
          <a:blip r:embed="rId2"/>
          <a:stretch/>
        </p:blipFill>
        <p:spPr>
          <a:xfrm>
            <a:off x="7467480" y="4724280"/>
            <a:ext cx="990720" cy="857520"/>
          </a:xfrm>
          <a:prstGeom prst="rect">
            <a:avLst/>
          </a:prstGeom>
          <a:ln w="0">
            <a:noFill/>
          </a:ln>
        </p:spPr>
      </p:pic>
      <p:pic>
        <p:nvPicPr>
          <p:cNvPr id="1456" name="Picture 10" descr="D:\msworks\PFiles\MSWorks\Clipart\Standard\stddir4\PE04004_.wmf"/>
          <p:cNvPicPr/>
          <p:nvPr/>
        </p:nvPicPr>
        <p:blipFill>
          <a:blip r:embed="rId3"/>
          <a:stretch/>
        </p:blipFill>
        <p:spPr>
          <a:xfrm>
            <a:off x="2362320" y="4800600"/>
            <a:ext cx="47448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F268-759B-4FA2-BBBC-3961998EC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2"/>
          <p:cNvSpPr/>
          <p:nvPr/>
        </p:nvSpPr>
        <p:spPr>
          <a:xfrm>
            <a:off x="609480" y="1676520"/>
            <a:ext cx="8077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2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4"/>
          <p:cNvSpPr/>
          <p:nvPr/>
        </p:nvSpPr>
        <p:spPr>
          <a:xfrm>
            <a:off x="685800" y="1447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Capitalize brand names but not the nouns following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5"/>
          <p:cNvSpPr/>
          <p:nvPr/>
        </p:nvSpPr>
        <p:spPr>
          <a:xfrm>
            <a:off x="762120" y="3124080"/>
            <a:ext cx="7543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uncho peanut bu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iffy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eaning fl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2" name="Picture 9" descr="C:\WINDOWS\Application Data\Microsoft\Media Catalog\Downloaded Clips\cl22\j0086080.wmf"/>
          <p:cNvPicPr/>
          <p:nvPr/>
        </p:nvPicPr>
        <p:blipFill>
          <a:blip r:embed="rId1"/>
          <a:stretch/>
        </p:blipFill>
        <p:spPr>
          <a:xfrm>
            <a:off x="533520" y="3276720"/>
            <a:ext cx="1041120" cy="95724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10" descr="D:\msworks\PFiles\MSWorks\Clipart\Standard\stddir3\HH02303_.wmf"/>
          <p:cNvPicPr/>
          <p:nvPr/>
        </p:nvPicPr>
        <p:blipFill>
          <a:blip r:embed="rId2"/>
          <a:stretch/>
        </p:blipFill>
        <p:spPr>
          <a:xfrm>
            <a:off x="4952880" y="4876920"/>
            <a:ext cx="1791000" cy="16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BCD1-F5A1-400F-9F25-45D7350B4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Showcard Gothic"/>
              </a:rPr>
              <a:t>RULE #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subTitle"/>
          </p:nvPr>
        </p:nvSpPr>
        <p:spPr>
          <a:xfrm>
            <a:off x="380880" y="1447920"/>
            <a:ext cx="87631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mic Sans MS"/>
              </a:rPr>
              <a:t>Capitalize the first word of a direct quotation that is a complete sentence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ext Box 4"/>
          <p:cNvSpPr/>
          <p:nvPr/>
        </p:nvSpPr>
        <p:spPr>
          <a:xfrm>
            <a:off x="0" y="3809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yrone said, “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 pioneers acted very bravely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3" name="Picture 5" descr="D:\msworks\PFiles\MSWorks\Clipart\Standard\stddir4\PE01855_.wmf"/>
          <p:cNvPicPr/>
          <p:nvPr/>
        </p:nvPicPr>
        <p:blipFill>
          <a:blip r:embed="rId1"/>
          <a:stretch/>
        </p:blipFill>
        <p:spPr>
          <a:xfrm>
            <a:off x="6400800" y="4800600"/>
            <a:ext cx="190980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5895-AC2A-4E15-9D90-AAA3F6D84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2"/>
          <p:cNvSpPr/>
          <p:nvPr/>
        </p:nvSpPr>
        <p:spPr>
          <a:xfrm>
            <a:off x="609480" y="1676520"/>
            <a:ext cx="8077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3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4"/>
          <p:cNvSpPr/>
          <p:nvPr/>
        </p:nvSpPr>
        <p:spPr>
          <a:xfrm>
            <a:off x="685800" y="14479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Capitalize the names of important historical events, periods of time, and docu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5"/>
          <p:cNvSpPr/>
          <p:nvPr/>
        </p:nvSpPr>
        <p:spPr>
          <a:xfrm>
            <a:off x="762120" y="3276720"/>
            <a:ext cx="7543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ttle of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rkt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onze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ll of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gh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8995-3D62-424B-AED3-E1B7EF65A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Rectangle 2"/>
          <p:cNvSpPr/>
          <p:nvPr/>
        </p:nvSpPr>
        <p:spPr>
          <a:xfrm>
            <a:off x="609480" y="1676520"/>
            <a:ext cx="8077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Text Box 4"/>
          <p:cNvSpPr/>
          <p:nvPr/>
        </p:nvSpPr>
        <p:spPr>
          <a:xfrm>
            <a:off x="685800" y="99072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Capitalize names of days of the week, months of the year, and holidays.  Do not capitalize names of the seas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Text Box 5"/>
          <p:cNvSpPr/>
          <p:nvPr/>
        </p:nvSpPr>
        <p:spPr>
          <a:xfrm>
            <a:off x="762120" y="3276720"/>
            <a:ext cx="7543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urs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morial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mm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D279-4974-4CA6-8380-C4CD9B74E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Rectangle 2"/>
          <p:cNvSpPr/>
          <p:nvPr/>
        </p:nvSpPr>
        <p:spPr>
          <a:xfrm>
            <a:off x="609480" y="1676520"/>
            <a:ext cx="8077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Text Box 4"/>
          <p:cNvSpPr/>
          <p:nvPr/>
        </p:nvSpPr>
        <p:spPr>
          <a:xfrm>
            <a:off x="304920" y="990720"/>
            <a:ext cx="830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Capitalize the first word, the last word, and all important words in the title of a book, play, short story, poem, essay, article, film television series, song, magazine, newspaper, and chapter of a boo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 Box 5"/>
          <p:cNvSpPr/>
          <p:nvPr/>
        </p:nvSpPr>
        <p:spPr>
          <a:xfrm>
            <a:off x="762120" y="3886200"/>
            <a:ext cx="7543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W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rinkle in </a:t>
            </a: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T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ve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W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shington </a:t>
            </a: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P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7CB1-98A6-4094-8D85-D69B063F9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Rectangle 2"/>
          <p:cNvSpPr/>
          <p:nvPr/>
        </p:nvSpPr>
        <p:spPr>
          <a:xfrm>
            <a:off x="609480" y="1676520"/>
            <a:ext cx="8077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 Box 4"/>
          <p:cNvSpPr/>
          <p:nvPr/>
        </p:nvSpPr>
        <p:spPr>
          <a:xfrm>
            <a:off x="304920" y="9907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Capitalize the names of ethnic groups, nationalities, and langu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 Box 5"/>
          <p:cNvSpPr/>
          <p:nvPr/>
        </p:nvSpPr>
        <p:spPr>
          <a:xfrm>
            <a:off x="685800" y="2362320"/>
            <a:ext cx="75438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r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n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li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BAB89-DFC7-4B3D-A94D-1743B5FB2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Rectangle 2"/>
          <p:cNvSpPr/>
          <p:nvPr/>
        </p:nvSpPr>
        <p:spPr>
          <a:xfrm>
            <a:off x="609480" y="1676520"/>
            <a:ext cx="8077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Text Box 4"/>
          <p:cNvSpPr/>
          <p:nvPr/>
        </p:nvSpPr>
        <p:spPr>
          <a:xfrm>
            <a:off x="304920" y="99072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Comic Sans MS"/>
              </a:rPr>
              <a:t>Capitalize proper adjectives that are formed from the names of ethnic groups and nationa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Text Box 5"/>
          <p:cNvSpPr/>
          <p:nvPr/>
        </p:nvSpPr>
        <p:spPr>
          <a:xfrm>
            <a:off x="685800" y="2819520"/>
            <a:ext cx="75438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an langu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alian f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lish auth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5A0E-05FD-421C-A94C-36D60C860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609480" y="1676520"/>
            <a:ext cx="8077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TLW FOLLOW RULES OF CAPITALIZATION FOR NOUNS AND PROPER AD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mic Sans MS"/>
              </a:rPr>
              <a:t>Writer’s Choice text p. 545—exercise 6 in journals.  Check and record tomorro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Showcard Gothic"/>
              </a:rPr>
              <a:t>Assignment #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E44A-E046-4722-B7B8-51D1571D6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Showcard Gothic"/>
              </a:rPr>
              <a:t>RULE #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7631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Comic Sans MS"/>
              </a:rPr>
              <a:t>When a quoted sentence is interrupted by explanatory words, such as she said, do not begin the second part of the sentence with a capital let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Text Box 4"/>
          <p:cNvSpPr/>
          <p:nvPr/>
        </p:nvSpPr>
        <p:spPr>
          <a:xfrm>
            <a:off x="0" y="41148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y left their homes,” said Lee, “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 they could improve their lives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0409-0208-48C5-BC16-57EF841F0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Showcard Gothic"/>
              </a:rPr>
              <a:t>RULE #3 continue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When the second part of a quotation is a new sentence, put a period after the interrupting expression, and begin the second part of the quotation with a capital let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Text Box 4"/>
          <p:cNvSpPr/>
          <p:nvPr/>
        </p:nvSpPr>
        <p:spPr>
          <a:xfrm>
            <a:off x="0" y="373392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ny pioneers went west for the rich farmland,” said Maria.  “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ey also wanted to build new homes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302E-2E74-49E3-9322-C0F827889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Showcard Gothic"/>
              </a:rPr>
              <a:t>RULE #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Do not capitalize an indirect quotation.  An indirect quotation does not repeat a person’s exact words and does not appear in quotation marks.  It is often introduced by the word </a:t>
            </a:r>
            <a:r>
              <a:rPr b="1" i="1" lang="en-US" sz="3600" spc="-1" strike="noStrike">
                <a:solidFill>
                  <a:srgbClr val="990000"/>
                </a:solidFill>
                <a:latin typeface="Comic Sans MS"/>
              </a:rPr>
              <a:t>that</a:t>
            </a: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4"/>
          <p:cNvSpPr/>
          <p:nvPr/>
        </p:nvSpPr>
        <p:spPr>
          <a:xfrm>
            <a:off x="0" y="44956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anya read </a:t>
            </a:r>
            <a:r>
              <a:rPr b="1" i="1" lang="en-US" sz="4800" spc="-1" strike="noStrike">
                <a:solidFill>
                  <a:srgbClr val="990000"/>
                </a:solidFill>
                <a:latin typeface="Times New Roman"/>
              </a:rPr>
              <a:t>that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y pioneers traveled in Conestoga wag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6841-BA01-4C7C-BB0C-5FF55402F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Showcard Gothic"/>
              </a:rPr>
              <a:t>RULE #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Comic Sans MS"/>
              </a:rPr>
              <a:t>Capitalize the first word in the salutation and closing of a letter.  Capitalize the title and name of the person address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4"/>
          <p:cNvSpPr/>
          <p:nvPr/>
        </p:nvSpPr>
        <p:spPr>
          <a:xfrm>
            <a:off x="0" y="3733920"/>
            <a:ext cx="9144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r 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s. 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J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hns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ar frien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Y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urs truly,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cerely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8E44-FCE7-4C9F-BF95-6CF6FFB21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Assignment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subTitle"/>
          </p:nvPr>
        </p:nvSpPr>
        <p:spPr>
          <a:xfrm>
            <a:off x="609120" y="2133720"/>
            <a:ext cx="80773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mic Sans MS"/>
              </a:rPr>
              <a:t>Worksheet Lesson #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Comic Sans MS"/>
              </a:rPr>
              <a:t>Study the review notes and follow the direct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3" name="Picture 4" descr="C:\WINDOWS\Application Data\Microsoft\Media Catalog\Downloaded Clips\cl0\AG00218_.gif"/>
          <p:cNvPicPr/>
          <p:nvPr/>
        </p:nvPicPr>
        <p:blipFill>
          <a:blip r:embed="rId1"/>
          <a:stretch/>
        </p:blipFill>
        <p:spPr>
          <a:xfrm>
            <a:off x="5029200" y="4300560"/>
            <a:ext cx="286560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261D-527B-4BB7-B193-43FA0458E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Showcard Gothic"/>
              </a:rPr>
              <a:t>Capitalizing people’s names and titles</a:t>
            </a:r>
            <a:br>
              <a:rPr sz="4400"/>
            </a:br>
            <a:r>
              <a:rPr b="1" lang="en-US" sz="4400" spc="-1" strike="noStrike">
                <a:solidFill>
                  <a:srgbClr val="000099"/>
                </a:solidFill>
                <a:latin typeface="Showcard Gothic"/>
              </a:rPr>
              <a:t>Rule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subTitle"/>
          </p:nvPr>
        </p:nvSpPr>
        <p:spPr>
          <a:xfrm>
            <a:off x="-360" y="2209320"/>
            <a:ext cx="8839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Comic Sans MS"/>
              </a:rPr>
              <a:t>Capitalize the names of people and the initials that stand for their nam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5"/>
          <p:cNvSpPr/>
          <p:nvPr/>
        </p:nvSpPr>
        <p:spPr>
          <a:xfrm>
            <a:off x="533520" y="4114800"/>
            <a:ext cx="8001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riwether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w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an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tho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op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6T14:43:53Z</dcterms:created>
  <dc:creator>Sandra Boyd</dc:creator>
  <dc:description/>
  <dc:language>en-US</dc:language>
  <cp:lastModifiedBy>Nadia Williams</cp:lastModifiedBy>
  <dcterms:modified xsi:type="dcterms:W3CDTF">2014-02-27T15:24:20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Percent">
    <vt:bool>1</vt:bool>
  </property>
  <property fmtid="{D5CDD505-2E9C-101B-9397-08002B2CF9AE}" pid="3" name="ShowTimer">
    <vt:bool>1</vt:bool>
  </property>
</Properties>
</file>